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D8E83-01C3-4D0C-A933-031D0F563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17F67-D4AD-4B2F-A1D0-108A5FFEA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15521-4592-43D6-BE15-B62071022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B378B-A0B6-4FEA-AE8C-C8EC9B91B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4FE77-20FF-4ECB-BBB3-F302AED18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B7DA4-993B-48B8-AA78-DC9B2C413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078FD-E98F-4C5C-B533-9779C2805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59853-A695-4457-B9BB-6A04890FB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2F62B-A1C2-4497-8F9A-38B3059E5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527DB-980B-48C8-996A-D1C1CFA74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EA09A-3884-454C-8991-E44377738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B2F4F-3430-4C1E-8F82-D19E03ABE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7B0CC-D3DA-4591-B2B6-7F00880D8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02ED5-C6B8-4C10-9B35-0127190D8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898C2-4ADB-4322-9C45-1CBA4EDEB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CD11A-989C-4EAA-86DC-0E86823BE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4E29D-EC06-4B09-8344-8F29D7F95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CE535-B727-4739-BA1D-3FDD8ABDA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3152D-9D96-4EFE-90F3-7EE55E563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A5732-DB2B-4972-8E1C-B672B0E5B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BECEF-29B7-4067-B90D-4896E40D7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3BADB-1C08-4594-9783-DF9865526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ACD7A-184F-4417-9E95-7EEEE380F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FF4C3-8A0C-4F5A-8418-DD9561CE5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2F34C-7671-48EC-A645-C8310BEB2894}" type="slidenum">
              <a:rPr b="0" lang="es-E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F092F-0B76-4923-B83A-37B3C7261C99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634920" y="1196640"/>
            <a:ext cx="496908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остях у Русского язы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Rectangle 26"/>
          <p:cNvSpPr/>
          <p:nvPr/>
        </p:nvSpPr>
        <p:spPr>
          <a:xfrm>
            <a:off x="3708360" y="4508640"/>
            <a:ext cx="496908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еклассное мероприятие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русскому языку в 5 классе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ила учитель русского языка и литературы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сорова Диана Баянбековна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3512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юдо-конкурс «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Загадочное царство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анда «Алфавит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шифруйте пословицу: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ДИ В ПЛЕО ЕН ОВИН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 запишите строчными буквами предложением с  заглавной буквы в начале и точкой в конц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подсказки - «воин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анда «Словосочетание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шифруйте пословицу: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ЛДЕ МЕРЯВ, А ХЕТЕПО САЧ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 запишите строчными буквами предложением с  заглавной буквы в начале и точкой в конц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подсказки - «время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3"/>
          <p:cNvSpPr/>
          <p:nvPr/>
        </p:nvSpPr>
        <p:spPr>
          <a:xfrm>
            <a:off x="3059280" y="3141720"/>
            <a:ext cx="1008000" cy="5032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4"/>
          <p:cNvSpPr/>
          <p:nvPr/>
        </p:nvSpPr>
        <p:spPr>
          <a:xfrm>
            <a:off x="2987640" y="6021360"/>
            <a:ext cx="1297080" cy="5047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5"/>
          <p:cNvSpPr/>
          <p:nvPr/>
        </p:nvSpPr>
        <p:spPr>
          <a:xfrm>
            <a:off x="7812000" y="6093000"/>
            <a:ext cx="1152720" cy="5760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альш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0" dur="5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6" dur="5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юдо-конкурс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Трехязычие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448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ждой команде по очереди загадываются пословицы с пропущенным словом. Учащиеся должны найти пропущенное слово и перевести его на казахский и английский языки. За каждый правильный ответ вы получите по 1 баллу. Максимальный балл - 3 бал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448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юдо-конкурс «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Трехязычие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8064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спеши ..., торопись дело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язык, тіл, tongue [tʌŋ]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. познается в бед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друг, дос, friend [frend]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. освещается солнцем, а человек – знание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мир, әлем, universe [ju:nɪvɜ:s] или world [wɜ:l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страха ... велик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глаза, көз, ey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[aɪ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. прославляет труд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человек, адам, man [mæn]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. – лучший друг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книга, кітап, book [bʊk]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юдо-конкурс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тихо-варение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448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ин из участников команд должен прочитать наизусть стихотворение. Критерии оценивания: название произведения и автор, выразительность, эмоциональность, громкость. Максимальный балл – 4 балл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448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юдо-конкурс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корофонограмма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448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словия конкурса: команды выстраиваются в прямую линию. Учитель сообщает скороговорку первому игроку, по сигналу тот шепотом передает ее второму и т.д. Последний должен внятно и громко произнести скороговорку. Критерии оценивание – это внятность и громкость. Максимальный балл – 2 балл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юдо-конкурс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корофонограмма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живом уголке жили ежи да уж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жит ежик у елки, а у ежа игол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гают две курицы прямо по улиц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24300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вершающая иг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33336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чему КВАС пишется слитно, а К ВАМ – раздельно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лово «квас» - имя существительное, а – «к вам» - местоимение с предлогом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е существительное состоит из трёх О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ТРИО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е местоимение требует чистоты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МОЙ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к птицы – это первый сло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торой – известен всем предлог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третий – бурная волна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перь шарада всем ясна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КАР – НА – ВА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Ы мы мчим вас что есть моч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У – мы ноги вам промочи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ЛЫЖИ – ЛУЖИ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http://www.belgdb.ru/assets/templates/project/2015/teenager/under_sun/img/main.png"/>
          <p:cNvPicPr/>
          <p:nvPr/>
        </p:nvPicPr>
        <p:blipFill>
          <a:blip r:embed="rId1"/>
          <a:stretch/>
        </p:blipFill>
        <p:spPr>
          <a:xfrm>
            <a:off x="395280" y="1628640"/>
            <a:ext cx="8271000" cy="489600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Беспроигрышная лотере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илеты под номерами 101, 102, 103, 104 – получают офицерские линейки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омера 105, 106, 107 – цветные карандаш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омера 108, 109, 110 – блокно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омера 111, 112, 113 – клей П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омера 114, 115 – руч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омера 116, 117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нная литератур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лимпиадные задания «Глаголъ» для 5 класса по русскому язык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аблоны презентаций </a:t>
            </a:r>
            <a:r>
              <a:rPr b="0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http://templated.ru/obrazovanie/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пычева Марина Станиславовна. Открытое внеклассное мероприятие на тему: «В гостях у русского языка». </a:t>
            </a:r>
            <a:r>
              <a:rPr b="0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http://www.openclass.ru/node/16763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spcAft>
                <a:spcPts val="1001"/>
              </a:spcAft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Calibri"/>
              </a:rPr>
              <a:t>Ирина Александровна Остряков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. 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Calibri"/>
              </a:rPr>
              <a:t>Сценарий открытия недели русского языка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400" spc="-1" strike="noStrike">
                <a:solidFill>
                  <a:srgbClr val="0070c0"/>
                </a:solidFill>
                <a:latin typeface="Times New Roman"/>
                <a:ea typeface="Calibri"/>
              </a:rPr>
              <a:t>http://www.proshkolu.ru/contest/nedelya/file2/242567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1619280" y="1600200"/>
            <a:ext cx="706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сский, польский и английск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тальянский и бельгийский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говорные друзь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 о чем же это 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Рисунок 3" descr=""/>
          <p:cNvPicPr/>
          <p:nvPr/>
        </p:nvPicPr>
        <p:blipFill>
          <a:blip r:embed="rId1"/>
          <a:stretch/>
        </p:blipFill>
        <p:spPr>
          <a:xfrm>
            <a:off x="5796000" y="3141720"/>
            <a:ext cx="2879640" cy="3311640"/>
          </a:xfrm>
          <a:prstGeom prst="rect">
            <a:avLst/>
          </a:prstGeom>
          <a:ln w="9360">
            <a:solidFill>
              <a:srgbClr val="97470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1116000" y="115920"/>
            <a:ext cx="7642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233280" indent="-2332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ечно, с детства ты знак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великим Русским Языком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, чтобы грамотным прослыть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ть красиво говори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хорошо учиться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ним стоит подружитьс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, между прочим, он сейча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дёт не дождётся в гости нас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сам открыть тебе гот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креты звуков, букв и слов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юдо-конкурс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Приветствие»</a:t>
            </a:r>
            <a:br>
              <a:rPr sz="44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балл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иветствуем команду «Алфавит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иветствуем команду «Словосочетание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" descr="http://3.bp.blogspot.com/-1JE3BamWQqI/Usw8Iv4dOVI/AAAAAAAAChg/sXooFefFsFA/s1600/%D0%9F%D1%80%D0%B8%D0%B2%D0%B5%D1%82.png"/>
          <p:cNvPicPr/>
          <p:nvPr/>
        </p:nvPicPr>
        <p:blipFill>
          <a:blip r:embed="rId1"/>
          <a:stretch/>
        </p:blipFill>
        <p:spPr>
          <a:xfrm>
            <a:off x="6732720" y="189000"/>
            <a:ext cx="2103480" cy="1877760"/>
          </a:xfrm>
          <a:prstGeom prst="rect">
            <a:avLst/>
          </a:prstGeom>
          <a:ln w="0">
            <a:noFill/>
          </a:ln>
        </p:spPr>
      </p:pic>
      <p:sp>
        <p:nvSpPr>
          <p:cNvPr id="92" name="AutoShape 4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6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19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юдо-конкурс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Фонетическое лакомство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 </a:t>
            </a:r>
            <a:br>
              <a:rPr sz="36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балл.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ремя для ответа – 3 минут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394920" y="1557360"/>
            <a:ext cx="4319640" cy="420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анда «Алфавит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ите, сколько раз в загадке встречается звук [а]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мотрите, дом стоит,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 краёв водой налит.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 окошек, но не мрачный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четырёх сторон прозрачный.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этом домике жильцы —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прекрасные пловц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 запишите цифр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861080" y="1557360"/>
            <a:ext cx="4319280" cy="420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анда «Словосочетание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ите, сколько раз в загадке встречается звук [о]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мотрите, дом стоит,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 краёв водой налит.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 окошек, но не мрачный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четырёх сторон прозрачный.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этом домике жильцы —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прекрасные пловцы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 запишите цифр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а с болельщикам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806400" y="836280"/>
            <a:ext cx="8229600" cy="50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ую строчку не сможет прочитать ни один человек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Швейную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гда руки бывают местоимениями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Когда они ВЫ-МЫ-ТЫ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овите местоимения, которые мешают водителям на дороге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Я-МЫ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буквой Р она течё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буквой П для вас печёт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лебяки и ватрушки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рит кашу и галушк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РЕЧКА – ПЕЧКА)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можно видеть с закрытыми глазами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ОН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35120" y="44280"/>
            <a:ext cx="8229600" cy="92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юдо-конкурс «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Анаграмма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826560" y="1125360"/>
            <a:ext cx="820908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Анаграмма — перестановка букв в слове, создающая новое слово (например, роман — норма). Вам необходимо составить к данным словам новые слова. За правильный ответ вы получите по 1 баллу. Время для ответа–2 минут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манда «Алфавит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Составьте к данному слову  одно новое: 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сосна —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манда «Словосочетание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Составьте к данному слову  одно новое: 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кабан -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78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а с болельщикам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35120" y="631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-246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вание какого дерева состоит из четырёх предлогов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-О-С-Н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какого фразеологизма марсиане могли бы заключить, что у человека не две ноги, а больше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БЕЖАТЬ СО ВСЕХ НОГ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ть ли ноги у газеты, книги, журнала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ЕСТЬ, КОГДА ИХ ДЕРЖАТ «ВВЕРХ НОГАМИ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глухим траву она срезает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 звонким – листья объедае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КОСА – КОЗ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й первый слог найдёшь тогда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гда в котле кипит вода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стоименье – слог второй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в целом – столик школьный тво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АР – Т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юдо-конкурс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Загадочное царство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этом царстве вам предстоит расшифровать пословицу.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Ответ запишите строчными буквами предложением с  заглавной буквы в начале и точкой в конце. Оцениваться задание будет пятибалльной шкале: грамотность, соблюдение орфографических норм, полнота ответа, время, не использование подсказки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ремя для ответа – 4 минут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7T17:55:06Z</dcterms:created>
  <dc:creator>Mariajose</dc:creator>
  <dc:description/>
  <dc:language>en-US</dc:language>
  <cp:lastModifiedBy>User</cp:lastModifiedBy>
  <dcterms:modified xsi:type="dcterms:W3CDTF">2017-01-29T16:07:18Z</dcterms:modified>
  <cp:revision>44</cp:revision>
  <dc:subject/>
  <dc:title>Diapositiva 1</dc:title>
</cp:coreProperties>
</file>